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2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6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jpeg" ContentType="image/jpeg"/>
  <Override PartName="/ppt/media/image25.png" ContentType="image/pn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F568-C484-4773-A1E2-1BD35916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6051-3B3B-49AC-BD99-C7326073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5667-2249-4137-A214-2E4ADACB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92C7-6A4E-4E0B-B63F-90314505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AB19-E24F-4043-9D02-57CDB0A6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7458-5BDA-4D1B-99B8-A7641201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51D0-9496-4CEB-B038-C1A9B106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A2C7-8A2B-4AA3-A506-515E7FFC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2773-9502-4E57-828E-77A01BDD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D0EA-09A5-424D-BED7-D31696FF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A3DE-5557-4763-A187-F8D2A9C6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322-E517-474B-99FA-B942286E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270A-D709-4D47-8CDD-77CA88E8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5548-E71D-496C-A1C7-C5F55200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C8D4-8B1C-4E59-8C52-12D0A670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C9BA-3569-422E-B070-7198E362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99DB-F57D-4CC8-821A-E9ED9975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575C-BC1A-4EEC-9C5D-A2D1870E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F554-E513-4AEA-8E49-E776B77D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095F-7E8F-4C35-B576-0B1CB417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4364-2DB6-48E7-AAFE-E1147884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8284-FE80-4CDE-87E9-B8FB4B98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DC60-4562-4B0E-ABCD-37D7F2F9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EEB-8F5E-49A8-BDEA-C358FA15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510D-67C5-42C8-BDD4-2A1836D75C3E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620F-B6DC-4935-BF96-371C29B94556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hyperlink" Target="http://cs10384.vkontakte.ru/u936497/-1/x_2d1b5263.jpg" TargetMode="External"/><Relationship Id="rId4" Type="http://schemas.openxmlformats.org/officeDocument/2006/relationships/hyperlink" Target="http://www.sostav.ru/articles/rus/2005/columns/rek-time/images/minin907.jpg" TargetMode="External"/><Relationship Id="rId5" Type="http://schemas.openxmlformats.org/officeDocument/2006/relationships/hyperlink" Target="http://www.pravmir.ru/wp-content/uploads/2011/11/mip-580x380.jpg" TargetMode="External"/><Relationship Id="rId6" Type="http://schemas.openxmlformats.org/officeDocument/2006/relationships/hyperlink" Target="http://history.sgu.ru/img/thumbs/x1-p6_s.jpg" TargetMode="External"/><Relationship Id="rId7" Type="http://schemas.openxmlformats.org/officeDocument/2006/relationships/hyperlink" Target="http://www.rusizn.ru/images/smuta/sm014_1.jpg" TargetMode="External"/><Relationship Id="rId8" Type="http://schemas.openxmlformats.org/officeDocument/2006/relationships/hyperlink" Target="http://sbiblio.com/biblio/archive/zanin_smuta_time_in_rus/001.jpg" TargetMode="External"/><Relationship Id="rId9" Type="http://schemas.openxmlformats.org/officeDocument/2006/relationships/hyperlink" Target="http://www.pravoslavie.ru/sas/image/100489/48957.p.jpg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ww.pravoslavie.ru/sas/image/100489/48957.p.jpg"/>
          <p:cNvPicPr/>
          <p:nvPr/>
        </p:nvPicPr>
        <p:blipFill>
          <a:blip r:embed="rId2"/>
          <a:stretch/>
        </p:blipFill>
        <p:spPr>
          <a:xfrm>
            <a:off x="1446120" y="1773360"/>
            <a:ext cx="6340680" cy="4601880"/>
          </a:xfrm>
          <a:prstGeom prst="rect">
            <a:avLst/>
          </a:prstGeom>
          <a:ln w="0">
            <a:noFill/>
          </a:ln>
        </p:spPr>
      </p:pic>
      <p:pic>
        <p:nvPicPr>
          <p:cNvPr id="83" name="Заголовок 4" descr=""/>
          <p:cNvPicPr/>
          <p:nvPr/>
        </p:nvPicPr>
        <p:blipFill>
          <a:blip r:embed="rId3"/>
          <a:stretch/>
        </p:blipFill>
        <p:spPr>
          <a:xfrm>
            <a:off x="384120" y="103320"/>
            <a:ext cx="850428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42600"/>
            <a:ext cx="300816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5 августа  Ходкевич был изгнан из Москвы. Однако не вся Москва была освобождена от захватчиков. Оставались ещё польские отряды полковников Струся и Будилы, засевшие в Китай-городе и Кремл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ная, что осажденные поляки терпят страшный голод, Пожарский направил им письмо, в котором предлагал польскому рыцарству сдаться. «Ваши головы и жизнь будут сохранены вам, — писал он, — я возьму это на свою душу и упрошу согласия на это всех ратных людей». На что от польских полковников последовал высокомерный и хвастливый ответ с отказом на предложение Пожарского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Содержимое 4" descr="Lissner.jpg"/>
          <p:cNvPicPr/>
          <p:nvPr/>
        </p:nvPicPr>
        <p:blipFill>
          <a:blip r:embed="rId2"/>
          <a:stretch/>
        </p:blipFill>
        <p:spPr>
          <a:xfrm>
            <a:off x="3575160" y="642960"/>
            <a:ext cx="52830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2"/>
          <a:stretch/>
        </p:blipFill>
        <p:spPr>
          <a:xfrm>
            <a:off x="304920" y="268200"/>
            <a:ext cx="3187440" cy="719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999720"/>
            <a:ext cx="30081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2 октября 1612 года Китай-город был взят приступом русскими войсками. А на 27 октября был назначен торжественный вход в Кремль войск князей Пожарского и Трубецкого. Когда войска собрались у Лобного места, архимандрит Троице-Сергиевого монастыря Дионисий совершил торжественный молебен в честь победы ополченцев. После чего под звон колоколов победители в сопровождении народа вступили в Кремль со знаменами и хоругвями. Так завершилось очищение Москвы и Московского государства от иноземных захватчик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Содержимое 4" descr="56429.jpeg"/>
          <p:cNvPicPr/>
          <p:nvPr/>
        </p:nvPicPr>
        <p:blipFill>
          <a:blip r:embed="rId3"/>
          <a:stretch/>
        </p:blipFill>
        <p:spPr>
          <a:xfrm>
            <a:off x="3643200" y="1143000"/>
            <a:ext cx="52866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274680" y="244440"/>
            <a:ext cx="3230640" cy="755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928440"/>
            <a:ext cx="3471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мятник Минину и Пожарскому - самый первый в Москве! Однако, изначально его планировали установить в Нижнем Новгороде - в городе, где было собрано ополчение, "на том самом месте, где Минин представил народу все имущество своё и воспламенил тем соревнование своих сограждан", а установку приурочить к 200-летию памятных событий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ечественная война 1812 года повлияла на многие сферы жизни и интерес к созданию памятника был и так велик, но после Отечественной войны, на волне подъема патриотизма, он вырос еще больше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Содержимое 4" descr="0_5dcb_b497bbfd_XL.jpg"/>
          <p:cNvPicPr/>
          <p:nvPr/>
        </p:nvPicPr>
        <p:blipFill>
          <a:blip r:embed="rId3"/>
          <a:stretch/>
        </p:blipFill>
        <p:spPr>
          <a:xfrm>
            <a:off x="4041720" y="272880"/>
            <a:ext cx="417852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28760"/>
            <a:ext cx="30081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кульптор изобразил момент, когда Кузьма Минин, указывая рукой на Москву, вручает князю Пожарскому старинный меч и призывает его встать во главе русского войска. Опираясь на щит, раненый воевода приподнимается со своего ложа, что символизирует пробуждение народного самосознания в трудный для Отечества час. Установить памятник решили в Москве, на Красной площад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Содержимое 4" descr="s0806242.jpg"/>
          <p:cNvPicPr/>
          <p:nvPr/>
        </p:nvPicPr>
        <p:blipFill>
          <a:blip r:embed="rId2"/>
          <a:stretch/>
        </p:blipFill>
        <p:spPr>
          <a:xfrm>
            <a:off x="3786120" y="571680"/>
            <a:ext cx="48578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2"/>
          <a:stretch/>
        </p:blipFill>
        <p:spPr>
          <a:xfrm>
            <a:off x="341280" y="268200"/>
            <a:ext cx="3382920" cy="1255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 декабря 2004 года Госдума РФ приняла одновременно в трех чтениях поправки в Федеральный закон «О днях воинской славы (Победных днях России)». Одной из правок было введение нового праздника — Дня народного единства  4 ноября., в день освобождения Москвы от польских интервент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400"/>
            </a:br>
            <a:br>
              <a:rPr sz="14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Содержимое 6" descr="268.jpg"/>
          <p:cNvPicPr/>
          <p:nvPr/>
        </p:nvPicPr>
        <p:blipFill>
          <a:blip r:embed="rId3"/>
          <a:stretch/>
        </p:blipFill>
        <p:spPr>
          <a:xfrm>
            <a:off x="4121280" y="179280"/>
            <a:ext cx="430848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738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214280"/>
            <a:ext cx="30081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Итак, в ноябре 1612 года страна была спасена. Спасена самоотверженностью людей, патриотически настроенных представителей разных сословий и народностей, сумевших преодолеть эгоизм и неприятие друг друга в борьбе против общего враг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Так было в 1612, так было через 200 лет 1812 во время борьбы с Наполеоном, так было во время Великой Отечественной войны в 1941-1945. И так должно быть всегда!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Содержимое 4" descr="3_resize.jpg"/>
          <p:cNvPicPr/>
          <p:nvPr/>
        </p:nvPicPr>
        <p:blipFill>
          <a:blip r:embed="rId3"/>
          <a:stretch/>
        </p:blipFill>
        <p:spPr>
          <a:xfrm>
            <a:off x="3575160" y="919080"/>
            <a:ext cx="51116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2"/>
          <a:stretch/>
        </p:blipFill>
        <p:spPr>
          <a:xfrm>
            <a:off x="2639880" y="493560"/>
            <a:ext cx="3340080" cy="920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85920" y="1571400"/>
            <a:ext cx="711504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олерантность означает терпимость к чужим мнениям и поступкам, способность относиться к ним без раздражен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Содержимое 4" descr="img1.gif"/>
          <p:cNvPicPr/>
          <p:nvPr/>
        </p:nvPicPr>
        <p:blipFill>
          <a:blip r:embed="rId3"/>
          <a:stretch/>
        </p:blipFill>
        <p:spPr>
          <a:xfrm>
            <a:off x="1500120" y="2714760"/>
            <a:ext cx="665964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1170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28760" y="857160"/>
            <a:ext cx="30081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ьте терпимее к другим людям. Запомните - не все думают и живут не так как вы, не все имеют такое же мнение как вы. И вы не можете ставить это людям в вину. Многообразие мира это прекрасно. Иначе мир был бы серым, скучны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Содержимое 8" descr="my_ediny - копия.jpg"/>
          <p:cNvPicPr/>
          <p:nvPr/>
        </p:nvPicPr>
        <p:blipFill>
          <a:blip r:embed="rId3"/>
          <a:stretch/>
        </p:blipFill>
        <p:spPr>
          <a:xfrm>
            <a:off x="3575160" y="1390680"/>
            <a:ext cx="51116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4" descr=""/>
          <p:cNvPicPr/>
          <p:nvPr/>
        </p:nvPicPr>
        <p:blipFill>
          <a:blip r:embed="rId2"/>
          <a:stretch/>
        </p:blipFill>
        <p:spPr>
          <a:xfrm>
            <a:off x="165240" y="633240"/>
            <a:ext cx="8942400" cy="13716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285480" y="2214720"/>
            <a:ext cx="82868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ные ресурс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ртрет Д. Пожарского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lemur59.ru/sites/default/files/images/1030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инин и Пожарский в Москв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cs10384.vkontakte.ru/u936497/-1/x_2d1b5263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амятник Минину и Пожарскому в Москв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http://www.sostav.ru/articles/rus/2005/columns/rek-time/images/minin907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инин и Пожарский въезжают в Москву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5"/>
              </a:rPr>
              <a:t>http://www.pravmir.ru/wp-content/uploads/2011/11/mip-580x380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«Изгнание польских интервентов из Московского Кремля. Автор: Лисснер Э.»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http://history.sgu.ru/img/thumbs/x1-p6_s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Первое ополчени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7"/>
              </a:rPr>
              <a:t>http://www.rusizn.ru/images/smuta/sm014_1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ворянская конница XVI в. С. Герберштейн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http://sbiblio.com/biblio/archive/zanin_smuta_time_in_rus/001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Баталия. </a:t>
            </a:r>
            <a:r>
              <a:rPr b="1" lang="en-US" sz="1100" spc="-1" strike="noStrike">
                <a:solidFill>
                  <a:srgbClr val="000000"/>
                </a:solidFill>
                <a:latin typeface="Book Antiqua"/>
              </a:rPr>
              <a:t>http://dugward.ru/library/miechow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ень народного единства . </a:t>
            </a:r>
            <a:r>
              <a:rPr b="1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9"/>
              </a:rPr>
              <a:t>http://www.pravoslavie.ru/sas/image/100489/48957.p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ловно радуги цвета…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uvo.do.am/foto_novosti/my_ediny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руг толерантности.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 http://www.savelki.ru/kdn_i_zp/DruzhbaNarodovV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хема толерантности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rudocs.exdat.com/pars_docs/tw_refs/260/259336/259336_html_m3f4f0f84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s015.radikal.ru/i332/1103/c8/67e43198a07d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Статья 3, любое изда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Статья 19, любое изда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исто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йчикова Татьяна Виктор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БОУ СОШ № 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м. А.А. Перфилье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азработке презентации принимали участие учащиеся 9-11 классов, члены школьного кружка по краеведе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ознакомить учащихся с историей возникновения праздника День народного единст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должить патриотическое воспитание школьников через осознание необходимости всеобщего единения для победы над агрессорам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должить формирование толерантности по отношению к людям любых народов, наций, религи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2" descr=""/>
          <p:cNvPicPr/>
          <p:nvPr/>
        </p:nvPicPr>
        <p:blipFill>
          <a:blip r:embed="rId2"/>
          <a:stretch/>
        </p:blipFill>
        <p:spPr>
          <a:xfrm>
            <a:off x="371520" y="19080"/>
            <a:ext cx="3060720" cy="1090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30081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татья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Носителем суверенитета и единственным источником власти в Российской Федерации является ее многонациональный народ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татья 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Государство гарантирует равенство прав и свобод человека и гражданина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, принадлежности к общественным объединениям, а также других обстоятельств. Запрещаются любые формы ограничения прав граждан по признакам социальной, расовой, национальной, языковой или религиозной принадлежно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Содержимое 5" descr="67e43198a07d.jpg"/>
          <p:cNvPicPr/>
          <p:nvPr/>
        </p:nvPicPr>
        <p:blipFill>
          <a:blip r:embed="rId3"/>
          <a:stretch/>
        </p:blipFill>
        <p:spPr>
          <a:xfrm>
            <a:off x="4032360" y="272880"/>
            <a:ext cx="41972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4" descr=""/>
          <p:cNvPicPr/>
          <p:nvPr/>
        </p:nvPicPr>
        <p:blipFill>
          <a:blip r:embed="rId2"/>
          <a:stretch/>
        </p:blipFill>
        <p:spPr>
          <a:xfrm>
            <a:off x="274680" y="268200"/>
            <a:ext cx="3193920" cy="1236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В начале </a:t>
            </a:r>
            <a:r>
              <a:rPr b="1" lang="de-DE" sz="1800" spc="-1" strike="noStrike">
                <a:solidFill>
                  <a:srgbClr val="0d0d0d"/>
                </a:solidFill>
                <a:latin typeface="Book Antiqua"/>
              </a:rPr>
              <a:t>XVII 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века на российской земле царил хаос и разруха. Противостояние внутри страны приобрело трагический характер: рвались родственные связи, гибли виновные и безвинные. Усугубляли положение внешние силы, вынашивавшие планы ослабления и подчинения России</a:t>
            </a: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Содержимое 9" descr="miechow.jpg"/>
          <p:cNvPicPr/>
          <p:nvPr/>
        </p:nvPicPr>
        <p:blipFill>
          <a:blip r:embed="rId3"/>
          <a:stretch/>
        </p:blipFill>
        <p:spPr>
          <a:xfrm>
            <a:off x="3714840" y="714240"/>
            <a:ext cx="50004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304920" y="-23760"/>
            <a:ext cx="3163680" cy="1517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эти трагические месяцы огромную роль сыграли посадские и уездные люди, которые взяли инициативу освобождения России и изгнание интервентов в свои рук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Содержимое 4" descr="sm014_1.jpg"/>
          <p:cNvPicPr/>
          <p:nvPr/>
        </p:nvPicPr>
        <p:blipFill>
          <a:blip r:embed="rId3"/>
          <a:stretch/>
        </p:blipFill>
        <p:spPr>
          <a:xfrm>
            <a:off x="3786120" y="1000080"/>
            <a:ext cx="50720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611 году в Рязани под руководством Прокопия Ляпунова было создано народное ополчение. Кроме Ляпунова им руководили князь Трубецкой  и атаман Заруцк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-за противоречий между ними и предательства Заруцкого 1-е ополчение распалос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Содержимое 4" descr="07-14.jpg"/>
          <p:cNvPicPr/>
          <p:nvPr/>
        </p:nvPicPr>
        <p:blipFill>
          <a:blip r:embed="rId2"/>
          <a:stretch/>
        </p:blipFill>
        <p:spPr>
          <a:xfrm>
            <a:off x="4071960" y="1143000"/>
            <a:ext cx="42861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30430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сия, по словам современников пребывала «при последнем времени» Казалось, уже не осталось сил для ее возрожд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люди вновь продемон- стрировали свою волю. Осенью 1611 года, усилиями нижегородского старосты Кузьмы Минина было создано Второе ополч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Содержимое 4" descr="minin-580x353.jpg"/>
          <p:cNvPicPr/>
          <p:nvPr/>
        </p:nvPicPr>
        <p:blipFill>
          <a:blip r:embed="rId3"/>
          <a:stretch/>
        </p:blipFill>
        <p:spPr>
          <a:xfrm>
            <a:off x="3786120" y="857160"/>
            <a:ext cx="51436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6760" y="1500120"/>
            <a:ext cx="30085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ыл найден и воевода, не запятнавший себя изменами,- князь Дмитрий Михайлович Пожарский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Содержимое 4" descr="1030.jpg"/>
          <p:cNvPicPr/>
          <p:nvPr/>
        </p:nvPicPr>
        <p:blipFill>
          <a:blip r:embed="rId2"/>
          <a:stretch/>
        </p:blipFill>
        <p:spPr>
          <a:xfrm>
            <a:off x="4000680" y="384120"/>
            <a:ext cx="45720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2"/>
          <a:stretch/>
        </p:blipFill>
        <p:spPr>
          <a:xfrm>
            <a:off x="304920" y="-23760"/>
            <a:ext cx="3243240" cy="1517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августе 1612 года полки Второго ополчения подошли к Москв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десь в районе Новодевичьего монастыря им пришлось вести тяжелые бои с гетманом Ходкевич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решающий момент отрядам Второго ополчения помогли казаки Первого ополчения. Боевое содружество привело к победе над врагом и к объединению всех си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Содержимое 6" descr="1262194244_imgb.jpeg"/>
          <p:cNvPicPr/>
          <p:nvPr/>
        </p:nvPicPr>
        <p:blipFill>
          <a:blip r:embed="rId3"/>
          <a:stretch/>
        </p:blipFill>
        <p:spPr>
          <a:xfrm>
            <a:off x="3575160" y="1000080"/>
            <a:ext cx="5283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3:57:06Z</dcterms:created>
  <dc:creator>дом</dc:creator>
  <dc:description/>
  <dc:language>en-US</dc:language>
  <cp:lastModifiedBy>Мама</cp:lastModifiedBy>
  <dcterms:modified xsi:type="dcterms:W3CDTF">2012-10-29T04:23:41Z</dcterms:modified>
  <cp:revision>36</cp:revision>
  <dc:subject/>
  <dc:title>Слайд 1</dc:title>
</cp:coreProperties>
</file>